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5877-A4FB-4701-88DA-EF6C6BE34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E42-3F65-4C8B-8CD2-E24304CF8D5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DA0-EF29-4C47-9108-08A8B40F94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CBAD-58F0-4254-A310-51626BC3E0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1FB-B549-46BA-84EE-509E274768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68BE-EE31-45F5-84DB-41C6AACC78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C59C-9452-40E3-9851-D59750A157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FAFE-9B68-467E-B772-E616784078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6EE2-A66B-48EC-A0B2-CAB4B73C00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80F-48B5-4BF1-BCAE-2213E7DF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BB29-0779-4637-A38C-C7210FA9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ABE-7821-44B7-BE8B-2561EDAD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199-39D0-408B-8AF7-916A23DA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7333-19EF-4BA7-A741-6907A1B0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1255-C888-4E2B-A08E-A891AFA5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041F-7CF3-4CE1-806C-CD60C742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EC40-1C29-4D1E-94EF-4EF939D2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CF28-BF6B-4B3B-8B6B-4C52AFC3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FC99-BF52-4BA5-AC84-2CAEF85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507D-4DD4-40DE-8754-D651A170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45C-1F3D-470D-869F-5DB489D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FBE1-3AB1-464B-B8B6-FB3D59DC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DC42-E286-4DC6-91CF-BF06247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7A5-FB3C-4E2A-A9E7-F56841AF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DD19-E182-4EE9-82E5-58A5FFD1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326E-D5D1-4A52-904A-8175E2BB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B352-03AD-433A-B7F7-895082A2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EFB7-E25D-403C-A417-11A6D4D1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9F8D-A9AE-4E01-B293-2D235A11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E541-EA45-46D0-8491-130D1D1D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9293-4F59-466F-B667-6465A074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8A0-D494-4DE6-A110-24B910C1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4BC0B-D7B0-4F15-9877-41C14ADD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105D-48C4-4F0A-A695-2633AB7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3081A-210F-434E-881F-14C166E8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7AE0A-471A-4143-87C0-BA18ECE2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25A6-775D-4791-87B8-AB66C1F8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4F10-02E3-40D2-8797-A8407627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9870-F208-4A2A-B25C-4041D3E9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2B0D-C21B-4D3C-A5AB-1D7ADB96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9581-CDB1-4106-9048-1FE6061A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C40A-A900-4418-A7EF-EC5A5AC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314-D09A-4991-BC2C-946E7363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F6F2-8415-4B11-82F8-1A012C58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08AB-092A-4362-9D8E-D1A761A8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5CB1-B1C2-4321-AE7D-C6B410D1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C090-5DAF-411D-9301-DFFC5AFE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F75A-FB24-4BA1-BF09-C673579C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19CC-87EF-4CD8-8E8C-18C99DC9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2740-A4C9-4A1A-B470-5CFAD9BD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E8BB-533D-4A0F-A6A9-28DE9889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9D3D-4C28-433E-8577-32DAEB0B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87D16-E809-4EA1-A9B1-291C00D4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5EC-B4B1-453D-A3A7-20C27FDA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48DBC-C9C6-471A-B5BE-3281F66E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469D7-A482-46E5-A2F7-F098F933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842B-2258-4476-B9BF-1AECC272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28D71-40E9-4C9F-994B-77AACAC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CCF9-1CC1-490B-B6B4-D946CEFF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278B-E4BF-4450-9FE7-EE90C28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B69A1-6FD0-4DD5-BA1E-296FA0F1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5FBAF-492E-44C8-B2F8-4AF3F0AC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021D1-C0FD-4FC3-8361-D46AE98F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7D535-C95D-4731-8AC9-E9A9BEA8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7E1-C9C3-4C6D-BB40-FE2AC999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3C8B7-839F-4E92-AFFB-AA9633FB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868C1-23AA-42AC-A6CB-C2523A46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16F1D-3FDA-42EA-97CE-014CB4FE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96398-FDE2-4A5F-B374-39926AB1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20812-885C-4CE5-BF26-A50D800B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9C22F-1A36-475F-AD88-B25D777F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3A909-9C71-46F6-B5B5-08E63971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6F9A-6B40-410F-819C-EE60AEF6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086E7-6C04-4EB1-B0A0-00CB5C5E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10292-07F8-4281-816B-4197FCB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0FD-0D76-425E-8B48-20A1B77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1F829-E3C1-441B-9817-66FFB359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9F7D4-451A-4C09-9ACA-1A256CC7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08DBE-C5A6-401F-8AE4-3174446E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8B37E-0F1E-4CA1-95A3-4712058F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65626-33D3-40B6-91BC-626F3804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C3A23-4659-4D42-BFE3-AC540638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E37B2-1DA3-44DB-B8AC-3DC1818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8B98F-5F40-425B-B5E3-AB7E5391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50566-C95F-413F-A129-97F35104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F48D-B87A-4566-BB83-F36725BB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5A0-D902-4F5A-8096-6E43B6C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68ED0-F446-4CE1-B17B-8230AC9D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EB09-D335-402F-8444-D8152222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08C9-EAD3-45A0-978F-A08A4DB1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B51E7-A69F-4775-80B7-3719276B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851AB-00BB-40CC-A3DE-36F35794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769-B09F-4B7A-8E77-A3FEE443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6C04-3868-4DA4-AFA8-C19E8B83F20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8D5F-C91E-47CA-8E5F-71E5C5AC63F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E217-9597-48AA-B06E-C3C3E3548D4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A34-30B9-492A-AEF6-90FCC916FCA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802F-09BD-4C68-9BEB-7B7302B6D8B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CEBD-4743-4284-A5F3-EF315F0DAE6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0069-0252-4598-A2ED-845DCB789D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cifun.ed.ac.uk/card/images/solstice/solstice-sid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9, section 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www.battledawn.com/temp/earth.jpg"/>
          <p:cNvPicPr/>
          <p:nvPr/>
        </p:nvPicPr>
        <p:blipFill>
          <a:blip r:embed="rId2"/>
          <a:stretch/>
        </p:blipFill>
        <p:spPr>
          <a:xfrm>
            <a:off x="4800600" y="380880"/>
            <a:ext cx="3333600" cy="33530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rth moves through space in two major ways: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rotation and revolu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Axi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the imaginary line that runs through Earth’s center and the North and South po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ota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the spinning of Earth on its axi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www.physicalgeography.net/fundamentals/images/earth_rotation.jpg"/>
          <p:cNvPicPr/>
          <p:nvPr/>
        </p:nvPicPr>
        <p:blipFill>
          <a:blip r:embed="rId1"/>
          <a:stretch/>
        </p:blipFill>
        <p:spPr>
          <a:xfrm>
            <a:off x="3200400" y="3276720"/>
            <a:ext cx="2514600" cy="3205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Revolu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the movement of one object around anoth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. Earth travels around the sun; one complete revolution= yea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http://www.boscobel.k12.wi.us/~schnrich/motion3.gif"/>
          <p:cNvPicPr/>
          <p:nvPr/>
        </p:nvPicPr>
        <p:blipFill>
          <a:blip r:embed="rId1"/>
          <a:stretch/>
        </p:blipFill>
        <p:spPr>
          <a:xfrm>
            <a:off x="1066680" y="3048120"/>
            <a:ext cx="7267680" cy="2485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Orbi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an elongated circular or elliptical path around the su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Season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 The distinct seasons are summer, autumn, winter, and spr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nlight hits the Earth’s surface most directly at the equa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rth has seasons because its axis is tilted as it revolves around the su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arth’s axis is always tilted at an angle of 23.5° from the vertica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arth’s Season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4" name="Picture 4" descr="http://www.ccastronomy.org/image_seasons.gif"/>
          <p:cNvPicPr/>
          <p:nvPr/>
        </p:nvPicPr>
        <p:blipFill>
          <a:blip r:embed="rId1"/>
          <a:stretch/>
        </p:blipFill>
        <p:spPr>
          <a:xfrm>
            <a:off x="1371600" y="1328760"/>
            <a:ext cx="7053120" cy="4843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914400" y="456840"/>
            <a:ext cx="7772400" cy="58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rth in June: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orth end of Earth’s axis is tilted toward sun= summer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uth end of Earth’s axis is tilted away from the sun= wint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rth in December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orthern Hemisphere is tilted away= wint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outhern Hemisphere is tilted toward= summ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push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914400" y="685800"/>
            <a:ext cx="7772400" cy="56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Solstic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Two days a year when the sun is farthest north or south of the equat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en summer solstice in Northern Hemisphere, it is the winter solstice in the Southern Hemisphere (around June 2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rbe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en winter solstice in Northern Hemisphere, it is the summer solstice in the Southern Hemisphere (around December 2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rbe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2" descr="The Solstices -- side 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4267080"/>
            <a:ext cx="7340760" cy="22100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Equinox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When the noon sun is directly overhead the equator; neither hemisphere is tilted away from the su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ay and night are each about 12 hours long everywhe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ring = March 21, Fall = September 22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www.wonderquest.com/solstice.gif"/>
          <p:cNvPicPr/>
          <p:nvPr/>
        </p:nvPicPr>
        <p:blipFill>
          <a:blip r:embed="rId1"/>
          <a:stretch/>
        </p:blipFill>
        <p:spPr>
          <a:xfrm>
            <a:off x="2133720" y="3429000"/>
            <a:ext cx="4279680" cy="32097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23:48:27Z</dcterms:created>
  <dc:creator>Alicia Arangio</dc:creator>
  <dc:description/>
  <dc:language>en-US</dc:language>
  <cp:lastModifiedBy>Falcon School District 49</cp:lastModifiedBy>
  <dcterms:modified xsi:type="dcterms:W3CDTF">2009-08-18T18:26:27Z</dcterms:modified>
  <cp:revision>13</cp:revision>
  <dc:subject/>
  <dc:title>Earth in Spa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1231033</vt:lpwstr>
  </property>
</Properties>
</file>